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F9FD4-ED2F-464C-856B-6F0E0358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A6898-5F99-4618-90BE-F2ABC8DE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04641-402A-4892-8C0E-CA59E494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05EFD-4E5E-4DEC-B647-D9908FE1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D7B6-EB7E-4628-AE0A-4B159DB5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9F9A-ED5A-4558-B58B-1CDF9F8D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289F-C77B-460C-820F-B5DF9C1D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741E-0C04-47C7-A2B8-796DBD0F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F87F-0D44-4411-917A-2BE8FDEF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FAF3-E17C-4E2E-BF8A-CEFA8A8F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EFB6-BF8B-4C34-A6E6-972E5639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14EB7-E9EE-43FC-AD05-A511F730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7F29-8434-46DE-96F5-53A97D95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3459-69CD-4C15-B89C-B7ED69FB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1CA4-6AF0-48A8-812C-E31CC894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113F-636A-4FBF-8CE3-B89B42AE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C356-F687-478F-B853-A1B540A5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8E115-6D31-4B27-92F6-71E65AEE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80F7-6290-4C3C-9EB5-6840DFA0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02BDE-0978-45B8-B716-6ADE2037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47C9E-E062-4D7D-AA82-CB14843E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4BC6F-31CD-4BAB-A193-BC7F80DD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DD2F6-E477-401A-A802-99BE1A93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FB8A0-D6C1-4FC1-8D8B-8DAE5B30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0952-1939-4FFB-B016-46D4F30140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CFAD-38C2-4DD3-862B-913853E8CA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ZZ_Top" TargetMode="External"/><Relationship Id="rId2" Type="http://schemas.openxmlformats.org/officeDocument/2006/relationships/hyperlink" Target="http://en.wikipedia.org/wiki/Billy_Gibbons" TargetMode="External"/><Relationship Id="rId3" Type="http://schemas.openxmlformats.org/officeDocument/2006/relationships/hyperlink" Target="http://en.wikipedia.org/wiki/Dusty_Hill" TargetMode="External"/><Relationship Id="rId4" Type="http://schemas.openxmlformats.org/officeDocument/2006/relationships/hyperlink" Target="http://en.wikipedia.org/wiki/Frank_Beard_%28musician%29" TargetMode="External"/><Relationship Id="rId5" Type="http://schemas.openxmlformats.org/officeDocument/2006/relationships/hyperlink" Target="http://en.wikipedia.org/wiki/Niagara_Falls" TargetMode="External"/><Relationship Id="rId6" Type="http://schemas.openxmlformats.org/officeDocument/2006/relationships/hyperlink" Target="http://en.wikipedia.org/wiki/Arnold_Schwarzenegger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beefjack.com/files/2010/06/Ice-T-picture.jpg&amp;imgrefurl=http://beefjack.com/news/ice-t-puts-the-%25E2%2580%2598og%25E2%2580%2599-in-cog/&amp;usg=__i7vS0-f1KnBtnNyQtHNoCgtmqOc=&amp;h=1024&amp;w=788&amp;sz=139&amp;hl=en&amp;start=1&amp;um=1&amp;itbs=1&amp;tbnid=bZTXuKMcD0QXdM:&amp;tbnh=150&amp;tbnw=115&amp;prev=/images%3Fq%3Dice-t%26um%3D1%26hl%3Den%26safe%3Dactive%26sa%3DN%26rlz%3D1T4GGIH_enUS218US218%26tbs%3Disch:1" TargetMode="External"/><Relationship Id="rId2" Type="http://schemas.openxmlformats.org/officeDocument/2006/relationships/hyperlink" Target="http://www.google.com/imgres?imgurl=http://beefjack.com/files/2010/06/Ice-T-picture.jpg&amp;imgrefurl=http://beefjack.com/news/ice-t-puts-the-%25E2%2580%2598og%25E2%2580%2599-in-cog/&amp;usg=__i7vS0-f1KnBtnNyQtHNoCgtmqOc=&amp;h=1024&amp;w=788&amp;sz=139&amp;hl=en&amp;start=1&amp;um=1&amp;itbs=1&amp;tbnid=bZTXuKMcD0QXdM:&amp;tbnh=150&amp;tbnw=115&amp;prev=/images%3Fq%3Dice-t%26um%3D1%26hl%3Den%26safe%3Dactive%26sa%3DN%26rlz%3D1T4GGIH_enUS218US218%26tbs%3Disch:1" TargetMode="External"/><Relationship Id="rId3" Type="http://schemas.openxmlformats.org/officeDocument/2006/relationships/hyperlink" Target="http://www.google.com/imgres?imgurl=http://beefjack.com/files/2010/06/Ice-T-picture.jpg&amp;imgrefurl=http://beefjack.com/news/ice-t-puts-the-%25E2%2580%2598og%25E2%2580%2599-in-cog/&amp;usg=__i7vS0-f1KnBtnNyQtHNoCgtmqOc=&amp;h=1024&amp;w=788&amp;sz=139&amp;hl=en&amp;start=1&amp;um=1&amp;itbs=1&amp;tbnid=bZTXuKMcD0QXdM:&amp;tbnh=150&amp;tbnw=115&amp;prev=/images%3Fq%3Dice-t%26um%3D1%26hl%3Den%26safe%3Dactive%26sa%3DN%26rlz%3D1T4GGIH_enUS218US218%26tbs%3Disch:1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English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t. 2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rony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erbal, Situational, and Dramatic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-152280" y="-295200"/>
            <a:ext cx="152280" cy="8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5" descr="irony"/>
          <p:cNvPicPr/>
          <p:nvPr/>
        </p:nvPicPr>
        <p:blipFill>
          <a:blip r:embed="rId1"/>
          <a:stretch/>
        </p:blipFill>
        <p:spPr>
          <a:xfrm>
            <a:off x="533520" y="1576440"/>
            <a:ext cx="8076960" cy="4367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981080" y="6095880"/>
            <a:ext cx="5791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s. McCal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iteratur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5715000" y="601992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http://1.bp.blogspot.com/_bj7klv9gHfE/SfspczmwobI/AAAAAAAABBA/Rs4JDg3tRmQ/s400/Irony.jp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rony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The general definition of)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ntradiction between appearance and reality, between expectation and outcome, or between meaning and inten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ree different kinds of iron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tuation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amat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l Iro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ccurs when someone says something that deliberately contradicts what that person actually mean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ositive connotations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My, you’ve certainly made a mess of things!” could be said to a hostess who presents a spectacular dish prepared with obvious care and skil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egative connotations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rcasm.  “Go ahead and keep sleeping during class, why don’t you?” could be said to a sleepy student even though the teacher clearly doesn’t want the student to keep sleeping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ituational Iro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ccurs when something happens that contradicts our expec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: “The Gift of the Magi” sto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ck trio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ZZ To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famously associated with the chest-length beards of guitarist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Billy Gibbo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bassist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Dusty Hil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 The group's drummer, who only has a mustache, happens to be named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Frank Bear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man jumps over a giant waterfall lik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Niagara Fall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 a barrel and survives, only to take a clean-up shower where he slips on the soap and dies from traum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Arnold Schwarzenegge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an actor famous for his violence in film, campaigning against violence in video games in general - which ironically includes those featuring his own character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 anti-technology websit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ituational Irony cont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Rapper Ice-T, once famous for his “Cop Killer” album, now plays a cop on </a:t>
            </a:r>
            <a:r>
              <a:rPr b="0" i="1" lang="en-US" sz="4800" spc="-1" strike="noStrike">
                <a:solidFill>
                  <a:srgbClr val="ffffff"/>
                </a:solidFill>
                <a:latin typeface="Garamond"/>
              </a:rPr>
              <a:t>Law &amp; Order: SVU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A fat personal traine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AutoShape 6">
            <a:hlinkClick r:id="rId1"/>
          </p:cNvPr>
          <p:cNvSpPr/>
          <p:nvPr/>
        </p:nvSpPr>
        <p:spPr>
          <a:xfrm>
            <a:off x="155520" y="46080"/>
            <a:ext cx="10954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AutoShape 8">
            <a:hlinkClick r:id="rId2"/>
          </p:cNvPr>
          <p:cNvSpPr/>
          <p:nvPr/>
        </p:nvSpPr>
        <p:spPr>
          <a:xfrm>
            <a:off x="155520" y="46080"/>
            <a:ext cx="10954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AutoShape 10">
            <a:hlinkClick r:id="rId3"/>
          </p:cNvPr>
          <p:cNvSpPr/>
          <p:nvPr/>
        </p:nvSpPr>
        <p:spPr>
          <a:xfrm>
            <a:off x="155520" y="46080"/>
            <a:ext cx="10954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4024440" y="2714760"/>
            <a:ext cx="10951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ramatic Iro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curs when the reader or audience is aware of a contradiction that a character(s) does not kno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: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Romeo and Juli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romeo-and-juliet"/>
          <p:cNvPicPr/>
          <p:nvPr/>
        </p:nvPicPr>
        <p:blipFill>
          <a:blip r:embed="rId1"/>
          <a:stretch/>
        </p:blipFill>
        <p:spPr>
          <a:xfrm>
            <a:off x="3429000" y="3886200"/>
            <a:ext cx="25146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ge 1075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ok for examples of irony for your no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me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ish Act 3, do the assignment on the bottom of first pag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6:08:00Z</dcterms:created>
  <dc:creator>DCSS</dc:creator>
  <dc:description/>
  <dc:language>en-US</dc:language>
  <cp:lastModifiedBy>Angie McCall</cp:lastModifiedBy>
  <dcterms:modified xsi:type="dcterms:W3CDTF">2013-10-30T12:54:34Z</dcterms:modified>
  <cp:revision>14</cp:revision>
  <dc:subject/>
  <dc:title>Irony: Verbal, Situational, and Dramatic</dc:title>
</cp:coreProperties>
</file>